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E96-DBAB-4BEE-98C2-AD7B237B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CA2-62BE-4864-985D-BB1CDBD0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27C-8D6C-447B-9F68-FD2C75AB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FDAE-6C90-4003-BFA2-FB000363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6F0-834A-40D1-ABEA-6083FDFB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01C3-0D98-4EF5-903B-2B3892F8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AE4-B602-4F7E-B01D-E8E6A7DF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086C-967D-46E8-B729-D42CF612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0F8-086C-42EC-AC75-BC314208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712-1B72-497B-9E00-10897AFD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695-5128-46E0-B0F6-CF769D30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A260-39A7-4C8D-B210-5E516E63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r Red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C40C-F00C-4CDE-8ABD-DC87C59BD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Highest Common Facto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3860280"/>
            <a:ext cx="8032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(aka Greatest Common Factor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ich one is the highest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Tahoma"/>
              </a:rPr>
              <a:t>12:1,2,3,4,6,12</a:t>
            </a: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Tahoma"/>
              </a:rPr>
              <a:t>30:1,2,3,5,6,10,15,30</a:t>
            </a: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3789360"/>
            <a:ext cx="777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47640" y="2421000"/>
            <a:ext cx="64800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68360" y="2421000"/>
            <a:ext cx="64800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27640" y="4869000"/>
            <a:ext cx="647640" cy="93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6360" y="4869000"/>
            <a:ext cx="647640" cy="93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68360" y="4797360"/>
            <a:ext cx="64800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4869000"/>
            <a:ext cx="648000" cy="93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87640" y="2421000"/>
            <a:ext cx="64764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7640" y="2421000"/>
            <a:ext cx="64764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Highest Common Factor of 12 and 30 is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Tahoma"/>
              </a:rPr>
              <a:t>12:</a:t>
            </a:r>
            <a:r>
              <a:rPr b="0" lang="en-US" sz="6700" spc="-1" strike="noStrike">
                <a:solidFill>
                  <a:srgbClr val="cc0000"/>
                </a:solidFill>
                <a:latin typeface="Tahoma"/>
              </a:rPr>
              <a:t>1,2,3,4,</a:t>
            </a:r>
            <a:r>
              <a:rPr b="0" lang="en-US" sz="67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6700" spc="-1" strike="noStrike">
                <a:solidFill>
                  <a:srgbClr val="cc0000"/>
                </a:solidFill>
                <a:latin typeface="Tahoma"/>
              </a:rPr>
              <a:t>,12</a:t>
            </a: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Tahoma"/>
              </a:rPr>
              <a:t>30:</a:t>
            </a:r>
            <a:r>
              <a:rPr b="0" lang="en-US" sz="6700" spc="-1" strike="noStrike">
                <a:solidFill>
                  <a:srgbClr val="cc0000"/>
                </a:solidFill>
                <a:latin typeface="Tahoma"/>
              </a:rPr>
              <a:t>1,2,3,5,</a:t>
            </a:r>
            <a:r>
              <a:rPr b="0" lang="en-US" sz="67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6700" spc="-1" strike="noStrike">
                <a:solidFill>
                  <a:srgbClr val="cc0000"/>
                </a:solidFill>
                <a:latin typeface="Tahoma"/>
              </a:rPr>
              <a:t>,10,15,30</a:t>
            </a: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3789360"/>
            <a:ext cx="777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4869000"/>
            <a:ext cx="647640" cy="93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27640" y="2421000"/>
            <a:ext cx="64764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rning Objec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Find the factors of 2 numbers and then pick the highest one that they share in common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’s Keywor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88320" y="2731320"/>
            <a:ext cx="5967360" cy="2263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ighest Common Fact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f all the factors that 2 numbers have in common, which one is the highes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ing up in today’s less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BrainPop Anim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Teacher demonstration on the board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Student exercis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Student-led plenar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acher Demonstr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actors of 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x 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x 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, 2, 4, 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11280" y="1600200"/>
            <a:ext cx="49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actors of 4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x 4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x 2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 x 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 x 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, 2, 4, 5, 8, 10, 20, 4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211280" y="1600200"/>
            <a:ext cx="49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actors of 4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x 4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x 2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 x 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 x 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, 2, 4, 5, 8, 10, 20, 4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acher Demonstr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actors of 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x 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x 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, 2, 4, 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3789360"/>
            <a:ext cx="431640" cy="57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3789360"/>
            <a:ext cx="431640" cy="57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56000" y="3789360"/>
            <a:ext cx="431640" cy="57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3789360"/>
            <a:ext cx="431640" cy="57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1640" y="4870440"/>
            <a:ext cx="431640" cy="57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4869000"/>
            <a:ext cx="431640" cy="576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92720" y="4869000"/>
            <a:ext cx="431640" cy="576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72360" y="4869000"/>
            <a:ext cx="431640" cy="576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566100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Highest Common Factor – the biggest number that goes into both – is…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udent Exerci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lete the SAT Questions i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exam condition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cus on understanding the questions and attempting to find the answers WITHOUT help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a  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b  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c  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d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ahom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ahom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ahom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vel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68000" y="3141720"/>
            <a:ext cx="64184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understand this very w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this sort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lly understand th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8360" y="2997360"/>
            <a:ext cx="1582560" cy="3168360"/>
            <a:chOff x="468360" y="2997360"/>
            <a:chExt cx="1582560" cy="3168360"/>
          </a:xfrm>
        </p:grpSpPr>
        <p:sp>
          <p:nvSpPr>
            <p:cNvPr id="119" name=""/>
            <p:cNvSpPr/>
            <p:nvPr/>
          </p:nvSpPr>
          <p:spPr>
            <a:xfrm>
              <a:off x="468360" y="2997360"/>
              <a:ext cx="1582560" cy="3168360"/>
            </a:xfrm>
            <a:prstGeom prst="flowChartAlternateProcess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26920" y="3141720"/>
              <a:ext cx="865440" cy="86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6920" y="4149720"/>
              <a:ext cx="865440" cy="86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6920" y="5157720"/>
              <a:ext cx="865440" cy="86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39640" y="1628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upils understand the terms highest common fact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r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ind the numbers (in order of size) that go int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480" indent="0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0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4221000"/>
            <a:ext cx="65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1, 2, 7, 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r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ipe the board clean and find the numbers that go int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120" indent="0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0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4221000"/>
            <a:ext cx="65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1, 2, 4, 5, 10, 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r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ipe the board clean and find the numbers that go int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120" indent="0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Tahoma"/>
              </a:rPr>
              <a:t>21</a:t>
            </a:r>
            <a:endParaRPr b="0" lang="en-US" sz="10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4221000"/>
            <a:ext cx="65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1, 3, 7, 2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vide your whiteboard into two halves across the midd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3789360"/>
            <a:ext cx="777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 the top half, write the factors of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4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0000"/>
                </a:solidFill>
                <a:latin typeface="Tahoma"/>
              </a:rPr>
              <a:t>1</a:t>
            </a:r>
            <a:endParaRPr b="0" lang="en-US" sz="1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3789360"/>
            <a:ext cx="777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 the bottom half, write the factors of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4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1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3789360"/>
            <a:ext cx="777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ou should have…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Tahoma"/>
              </a:rPr>
              <a:t>12:1,2,3,4,6,12</a:t>
            </a: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Tahoma"/>
              </a:rPr>
              <a:t>30:1,2,3,5,6,10,15,30</a:t>
            </a: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789360"/>
            <a:ext cx="777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w circle the ones that they sha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Tahoma"/>
              </a:rPr>
              <a:t>12:1,2,3,4,6,12</a:t>
            </a: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Tahoma"/>
              </a:rPr>
              <a:t>30:1,2,3,5,6,10,15,30</a:t>
            </a: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3789360"/>
            <a:ext cx="777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2421000"/>
            <a:ext cx="64800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68360" y="2421000"/>
            <a:ext cx="64800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4869000"/>
            <a:ext cx="647640" cy="93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6360" y="4869000"/>
            <a:ext cx="647640" cy="93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8360" y="4797360"/>
            <a:ext cx="64800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47640" y="4869000"/>
            <a:ext cx="648000" cy="93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2421000"/>
            <a:ext cx="64764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7640" y="2421000"/>
            <a:ext cx="64764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8:14:32Z</dcterms:created>
  <dc:creator>Bruno Reddy</dc:creator>
  <dc:description/>
  <dc:language>en-US</dc:language>
  <cp:lastModifiedBy>Bruno Reddy</cp:lastModifiedBy>
  <dcterms:modified xsi:type="dcterms:W3CDTF">2005-02-02T23:06:25Z</dcterms:modified>
  <cp:revision>8</cp:revision>
  <dc:subject/>
  <dc:title>Highest Common Factor</dc:title>
</cp:coreProperties>
</file>